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258-DB54-491D-87FF-7216577E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E43-D6F8-43A0-A8B8-3AD90CEE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D3AF-6E3B-4990-9FBA-37113163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3D4-5B40-437E-9440-51EAD1DD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C27-71DF-4970-8A1A-F25A027D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953-FF3D-4A33-B374-C6193B4A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2E0-0012-4DA3-AE57-4BA5939D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292-BE8C-41AF-9F5E-92ECB7D6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1CD-00B2-43E3-9E8B-6F6B8BCC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BD3-2066-42F1-A14E-DC82B951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34E-35BA-4B99-8E50-036349B9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841-02D9-4ED3-AC9B-048595B1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BA73-FAA5-4121-827B-4DA1A4EAD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3 V dôvere sa utiek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dôvere sa utiek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tebe Pane Ježiš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búrkach žitia v tebe m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rýšu, pomoc najbližši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chrov príval upok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oďku moju k cieľu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mrak zastrie výhľad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ovom pravdy do tmy sv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eťa svoje, Pane, chrá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mojej spásy hra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e Slovo – moja zbra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stvo ráč sám mi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laňou svojou zaštíť m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zkostí zbav, hriechu pút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keď vôkol hustne tm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jím vodcom, Pane, bu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, čo treba k život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hojnosti mi dávaš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aľ i bolesť, samot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vojej sile preko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tebe plnosť svätosti,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mňa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však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premôcť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hrozí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hriech,</a:t>
            </a:r>
            <a:br>
              <a:rPr sz="47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ma, Pane, z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čisť, uzdrav, zbieľ jak sne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ebe moja isto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si jediný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lieb a vodu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vojom Slove dávaš 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, Pane, z vďa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e srdce dávam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len v tvojej blí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a môžem radov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9T13:44:53Z</dcterms:modified>
  <cp:revision>21</cp:revision>
  <dc:subject/>
  <dc:title>Je veľký náš Pán, on slávy je Kráľ Nech do všetkých strán  spev vrúcnych znie chvál.</dc:title>
</cp:coreProperties>
</file>